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019925" cy="10260013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4E8-B9BE-4AF1-98B4-F4C4ECBA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631980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5931720"/>
            <a:ext cx="631980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FE5-47BF-4ACE-9399-2FF16B6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8840" y="239400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593172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8840" y="593172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C42-FBE7-47CB-8B75-36165EDA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203472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7600" y="2394000"/>
            <a:ext cx="203472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4200" y="2394000"/>
            <a:ext cx="203472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5931720"/>
            <a:ext cx="203472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7600" y="5931720"/>
            <a:ext cx="203472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24200" y="5931720"/>
            <a:ext cx="203472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553-9EB8-49D7-B389-639CB85C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2394000"/>
            <a:ext cx="6319800" cy="67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349-8E85-4838-95B6-6793BB26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6319800" cy="677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A51-335F-489C-9EBE-C5765C3C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3083760" cy="677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8840" y="2394000"/>
            <a:ext cx="3083760" cy="677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FFA-B1D8-4978-B59D-7CB231FD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904-A100-4658-B94F-2CECFA9E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10760"/>
            <a:ext cx="6319800" cy="79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2C7-6066-4A9B-A76D-C7412F6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8840" y="2394000"/>
            <a:ext cx="3083760" cy="677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593172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841-1DFC-432D-A6E8-04A1ED9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3083760" cy="677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8840" y="239400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8840" y="593172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E72-F5BE-4887-BB04-164DC56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239400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8840" y="2394000"/>
            <a:ext cx="308376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5931720"/>
            <a:ext cx="6319800" cy="3230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D6F-936B-41A7-A968-DB304B4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6319800" cy="170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2394000"/>
            <a:ext cx="6319800" cy="677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5880" indent="-3016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236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656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656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656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000" y="9510480"/>
            <a:ext cx="1638000" cy="546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98680" y="9510480"/>
            <a:ext cx="2224080" cy="546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32080" y="9510480"/>
            <a:ext cx="1638360" cy="546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F8F4-3EEC-4103-BA0A-5A089592F29F}" type="slidenum">
              <a:rPr b="0" lang="ja-JP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tel:082-297-1321" TargetMode="External"/><Relationship Id="rId4" Type="http://schemas.openxmlformats.org/officeDocument/2006/relationships/hyperlink" Target="tel:082-297-1321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14"/>
          <p:cNvSpPr/>
          <p:nvPr/>
        </p:nvSpPr>
        <p:spPr>
          <a:xfrm>
            <a:off x="152280" y="1273320"/>
            <a:ext cx="7021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度は、株式会社インターロジック主催の「</a:t>
            </a: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１００年に一度のチャンスを勝ちとる為の</a:t>
            </a:r>
            <a:r>
              <a:rPr b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T</a:t>
            </a: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活用セミナー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にお申し込みいただき、誠にありがとうござ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つきましては、</a:t>
            </a: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ミナーの受講票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送らせていただきます。当日持参の上、ご参加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頂きますようよろしくお願い致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33"/>
          <p:cNvSpPr/>
          <p:nvPr/>
        </p:nvSpPr>
        <p:spPr>
          <a:xfrm>
            <a:off x="0" y="487440"/>
            <a:ext cx="7021440" cy="6429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37"/>
          <p:cNvSpPr/>
          <p:nvPr/>
        </p:nvSpPr>
        <p:spPr>
          <a:xfrm>
            <a:off x="0" y="596880"/>
            <a:ext cx="70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5 </a:t>
            </a: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4</a:t>
            </a: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日（月）　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T</a:t>
            </a: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活用セミナー 受講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線コネクタ 50"/>
          <p:cNvSpPr/>
          <p:nvPr/>
        </p:nvSpPr>
        <p:spPr>
          <a:xfrm>
            <a:off x="0" y="2273400"/>
            <a:ext cx="7021440" cy="1440"/>
          </a:xfrm>
          <a:prstGeom prst="line">
            <a:avLst/>
          </a:prstGeom>
          <a:ln w="442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51"/>
          <p:cNvSpPr/>
          <p:nvPr/>
        </p:nvSpPr>
        <p:spPr>
          <a:xfrm>
            <a:off x="0" y="130320"/>
            <a:ext cx="72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600" spc="-1" strike="noStrike">
                <a:solidFill>
                  <a:srgbClr val="10253f"/>
                </a:solidFill>
                <a:latin typeface="メイリオ"/>
                <a:ea typeface="メイリオ"/>
              </a:rPr>
              <a:t>「</a:t>
            </a:r>
            <a:r>
              <a:rPr b="0" lang="en-US" sz="1600" spc="-1" strike="noStrike">
                <a:solidFill>
                  <a:srgbClr val="10253f"/>
                </a:solidFill>
                <a:latin typeface="メイリオ"/>
                <a:ea typeface="メイリオ"/>
              </a:rPr>
              <a:t>100</a:t>
            </a:r>
            <a:r>
              <a:rPr b="0" lang="ja-JP" sz="1600" spc="-1" strike="noStrike">
                <a:solidFill>
                  <a:srgbClr val="10253f"/>
                </a:solidFill>
                <a:latin typeface="メイリオ"/>
                <a:ea typeface="メイリオ"/>
              </a:rPr>
              <a:t>年に一度のチャンスを勝ちとる為の</a:t>
            </a:r>
            <a:r>
              <a:rPr b="0" lang="en-US" sz="1600" spc="-1" strike="noStrike">
                <a:solidFill>
                  <a:srgbClr val="10253f"/>
                </a:solidFill>
                <a:latin typeface="メイリオ"/>
                <a:ea typeface="メイリオ"/>
              </a:rPr>
              <a:t>IT</a:t>
            </a:r>
            <a:r>
              <a:rPr b="0" lang="ja-JP" sz="1600" spc="-1" strike="noStrike">
                <a:solidFill>
                  <a:srgbClr val="10253f"/>
                </a:solidFill>
                <a:latin typeface="メイリオ"/>
                <a:ea typeface="メイリオ"/>
              </a:rPr>
              <a:t>活用セミナー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49"/>
          <p:cNvSpPr/>
          <p:nvPr/>
        </p:nvSpPr>
        <p:spPr>
          <a:xfrm>
            <a:off x="0" y="5054760"/>
            <a:ext cx="70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13"/>
          <p:cNvSpPr/>
          <p:nvPr/>
        </p:nvSpPr>
        <p:spPr>
          <a:xfrm>
            <a:off x="0" y="2382840"/>
            <a:ext cx="70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受講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5"/>
          <p:cNvSpPr/>
          <p:nvPr/>
        </p:nvSpPr>
        <p:spPr>
          <a:xfrm>
            <a:off x="152280" y="2987640"/>
            <a:ext cx="686916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御社名　　　　　　　　　〇〇〇〇〇株式会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　　　　　　　　　　　　　　　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参加者名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役職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線コネクタ 17"/>
          <p:cNvSpPr/>
          <p:nvPr/>
        </p:nvSpPr>
        <p:spPr>
          <a:xfrm>
            <a:off x="2066760" y="3344760"/>
            <a:ext cx="428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線コネクタ 19"/>
          <p:cNvSpPr/>
          <p:nvPr/>
        </p:nvSpPr>
        <p:spPr>
          <a:xfrm>
            <a:off x="2066760" y="3921120"/>
            <a:ext cx="428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コネクタ 20"/>
          <p:cNvSpPr/>
          <p:nvPr/>
        </p:nvSpPr>
        <p:spPr>
          <a:xfrm>
            <a:off x="2062080" y="4938840"/>
            <a:ext cx="428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6"/>
          <p:cNvSpPr/>
          <p:nvPr/>
        </p:nvSpPr>
        <p:spPr>
          <a:xfrm>
            <a:off x="2295360" y="3559320"/>
            <a:ext cx="421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代表取締役　〇〇〇〇　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18"/>
          <p:cNvSpPr/>
          <p:nvPr/>
        </p:nvSpPr>
        <p:spPr>
          <a:xfrm>
            <a:off x="2062080" y="4459320"/>
            <a:ext cx="428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2"/>
          <p:cNvSpPr/>
          <p:nvPr/>
        </p:nvSpPr>
        <p:spPr>
          <a:xfrm>
            <a:off x="2295360" y="4059360"/>
            <a:ext cx="4287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専務取締役　　○○○○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図 23" descr="インターロジックロゴ.jpg"/>
          <p:cNvPicPr/>
          <p:nvPr/>
        </p:nvPicPr>
        <p:blipFill>
          <a:blip r:embed="rId1"/>
          <a:stretch/>
        </p:blipFill>
        <p:spPr>
          <a:xfrm>
            <a:off x="5511960" y="0"/>
            <a:ext cx="1509480" cy="44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1080" y="7780320"/>
            <a:ext cx="5216400" cy="2481120"/>
          </a:xfrm>
          <a:prstGeom prst="rect">
            <a:avLst/>
          </a:prstGeom>
          <a:ln w="0">
            <a:noFill/>
          </a:ln>
        </p:spPr>
      </p:pic>
      <p:sp>
        <p:nvSpPr>
          <p:cNvPr id="57" name="テキスト ボックス 21"/>
          <p:cNvSpPr/>
          <p:nvPr/>
        </p:nvSpPr>
        <p:spPr>
          <a:xfrm>
            <a:off x="652320" y="5430960"/>
            <a:ext cx="6226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開催日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201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5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24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日（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開　演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14:0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16:0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（受付開始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13:3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会     場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RCC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文化センター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　　　　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     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730-001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　広島市中区橋本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5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　　　　　   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TEL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082-222-22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（広島駅南口より徒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分、広電銀山町電停より徒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メイリオ"/>
              </a:rPr>
              <a:t>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主     催　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株式会社インターロジック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メイリオ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メイリオ"/>
                <a:hlinkClick r:id="rId3"/>
              </a:rPr>
              <a:t>Tel:082-297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メイリオ"/>
                <a:hlinkClick r:id="rId4"/>
              </a:rPr>
              <a:t>-1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■会場地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24"/>
          <p:cNvSpPr/>
          <p:nvPr/>
        </p:nvSpPr>
        <p:spPr>
          <a:xfrm>
            <a:off x="2295360" y="4532400"/>
            <a:ext cx="4287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Calibri"/>
              </a:rPr>
              <a:t>営業部長　　　○○○○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9:25:38Z</dcterms:created>
  <dc:creator>Maruyama</dc:creator>
  <dc:description/>
  <dc:language>en-US</dc:language>
  <cp:lastModifiedBy>sinobu</cp:lastModifiedBy>
  <dcterms:modified xsi:type="dcterms:W3CDTF">2010-08-31T13:50:31Z</dcterms:modified>
  <cp:revision>155</cp:revision>
  <dc:subject/>
  <dc:title>スライド 1</dc:title>
</cp:coreProperties>
</file>